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070-2425-46F9-9E11-25CB8FB7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1AA-A381-4B59-B025-C331A6ED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your objectives, why they need to know it , and how they will use the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objective:  Students will be able to illustrate clouds that signal unsettled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objective:  Students will understand that some clouds signal the approach of poor weather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 Have groups (2-3) write a behavioral objective for 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provide a list of verbs for teachers to use after slide number 13, which summarizes objectives and ai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for futur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hand out Lesson Planning  Institute-Quick Notes to begin the process of developing less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655-9B1F-44DB-9338-CAB6EC59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 standards (curriculum) ready for teachers- either online for them to have access or a hard copy of the specific standards they are to use.  The book has on pages 204-205 an appendix on National Standards from Professional Organizations.  This can be typed and hand It to them, CCLS email address can be added to this 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E41-9200-43EC-B976-C7277818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s of effective planning and effective teaching.  Today we are going to look at domain 1 and to some extend Domai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AF3E-9291-46D1-AD6E-0FE8818E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886D-5247-4F8D-A645-09009CE0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loud to gro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CC45-2BE6-4B03-8F68-84E5C938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re going to be provided with statements for them to classify as either big ideas or skills.  This activity will develop an understanding for what a big idea is.  TIME FOR BREAK AFTER THIS SLID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what is a skill from a big id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9AFB-BFA8-40FB-827B-74CAE89A7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ll check websites for them to further understand the concept of Big Ideas and essential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06E-FD64-45A5-AB42-922DFD537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6FA-12EE-45B6-8A46-30C3970A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04D-853F-444D-8CDE-9A66C47B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3C4-121A-4226-A78D-772F9D97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928-11CD-4486-A587-81091B61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2954-67F3-4C4B-BAE5-EE02BFA0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BF5F-E41C-4AEA-9A5A-5A8FF01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990-FAAA-497A-A11B-75D8936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C86-EABC-43CF-8705-05F283C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2FD-2CA6-49C1-BF23-071F4237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315-3ECA-4C9C-9F82-69ABF18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7B2-2558-4B42-8D34-AB024AD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7B5-6F30-41F2-BDBB-E88F1A3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3CA-FEBE-49A4-ABF2-928955F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F44C-D935-4323-8B46-A89B4217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D315-9428-4A75-836E-58A31A9F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D5A-ED4E-4B68-BF49-B866EEFC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FC97-82E9-4B3C-8D1C-42E1A9B0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BA8-939F-43D4-93A2-46A66AA5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C92-5791-4E93-8F01-A7AA0893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AED-5FA5-4980-A7DD-857D0F9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F6-23ED-4B05-BBFE-A3D5FFB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16F-3E5B-4877-89D2-40E4D39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80B-FDDD-4979-BE5D-59D6296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931-78B4-4A5C-A122-96E587E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FDE5-6ACB-420D-8235-4129A075680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65A-1C92-47D4-BF1D-00F19F045F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183-B2E3-4095-8174-0351360384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C09-4C99-4E6A-96B2-2612F0703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labellanoire.files.wordpress.com/2008/08/questionmark.jpg&amp;imgrefurl=http://labellanoire.wordpress.com/2008/08/&amp;usg=__fShgmZAb7UGgIEDVcgCP1hbFqxs=&amp;h=310&amp;w=311&amp;sz=7&amp;hl=en&amp;start=9&amp;itbs=1&amp;tbnid=mUSXxbl4DGa6nM:&amp;tbnh=117&amp;tbnw=117&amp;prev=/images?q=question+mark+face&amp;hl=en&amp;sa=N&amp;gbv=2&amp;ndsp=20&amp;tbs=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1782bf"/>
                </a:solidFill>
                <a:latin typeface="Times New Roman"/>
              </a:rPr>
              <a:t>Framework for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dfbe0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Lesson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grow.hope.edu/img/Prepare%20The%20Way%20-%20Final.JPG"/>
          <p:cNvPicPr/>
          <p:nvPr/>
        </p:nvPicPr>
        <p:blipFill>
          <a:blip r:embed="rId1"/>
          <a:stretch/>
        </p:blipFill>
        <p:spPr>
          <a:xfrm>
            <a:off x="0" y="0"/>
            <a:ext cx="299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OBJECTIV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description of </a:t>
            </a:r>
            <a:r>
              <a:rPr b="1" lang="en-US" sz="2400" spc="-1" strike="noStrike">
                <a:solidFill>
                  <a:srgbClr val="1782bf"/>
                </a:solidFill>
                <a:latin typeface="Century Gothic"/>
              </a:rPr>
              <a:t>what the student will know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1" lang="en-US" sz="2400" spc="-1" strike="noStrike">
                <a:solidFill>
                  <a:srgbClr val="1782bf"/>
                </a:solidFill>
                <a:latin typeface="Century Gothic"/>
              </a:rPr>
              <a:t>be able to do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t the end of the lesson </a:t>
            </a:r>
            <a:r>
              <a:rPr b="1" lang="en-US" sz="1100" spc="-1" strike="noStrike">
                <a:solidFill>
                  <a:srgbClr val="000000"/>
                </a:solidFill>
                <a:latin typeface="Lucida Sans"/>
              </a:rPr>
              <a:t>(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Lucida Sans"/>
              </a:rPr>
              <a:t>Where Great Teaching Begins: Planning for student thinking and learning </a:t>
            </a:r>
            <a:r>
              <a:rPr b="1" lang="en-US" sz="1100" spc="-1" strike="noStrike">
                <a:solidFill>
                  <a:srgbClr val="000000"/>
                </a:solidFill>
                <a:latin typeface="Lucida Sans"/>
              </a:rPr>
              <a:t>by Anne R. Reev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vides alignment with district and state goals (Uses CC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Use behavioral verbs to describe the expected outcomes (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Avoid Wording Such As: appreciate, enjoy, understand, lov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FE2-952C-4582-BB0D-1127A5ED35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666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s answer two of the four key questions of pla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What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students lear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8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To what degree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they learn? To what depth and bread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cquir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emonstrat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t3.gstatic.com/images?q=tbn:mUSXxbl4DGa6nM:http://labellanoire.files.wordpress.com/2008/08/questionmar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437000"/>
            <a:ext cx="2087640" cy="2016360"/>
          </a:xfrm>
          <a:prstGeom prst="rect">
            <a:avLst/>
          </a:prstGeom>
          <a:ln w="0">
            <a:noFill/>
          </a:ln>
        </p:spPr>
      </p:pic>
      <p:sp>
        <p:nvSpPr>
          <p:cNvPr id="151" name="Cloud Callout 2"/>
          <p:cNvSpPr/>
          <p:nvPr/>
        </p:nvSpPr>
        <p:spPr>
          <a:xfrm>
            <a:off x="0" y="0"/>
            <a:ext cx="4319640" cy="3573360"/>
          </a:xfrm>
          <a:prstGeom prst="cloudCallout">
            <a:avLst>
              <a:gd name="adj1" fmla="val 27055"/>
              <a:gd name="adj2" fmla="val 70370"/>
            </a:avLst>
          </a:prstGeom>
          <a:solidFill>
            <a:srgbClr val="b7d3fb"/>
          </a:solidFill>
          <a:ln w="25560">
            <a:solidFill>
              <a:srgbClr val="6fa8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Learn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re statements of </a:t>
            </a: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</a:rPr>
              <a:t>what you are setting out to tea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lthough expressed as if the students were going to lear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loud Callout 3"/>
          <p:cNvSpPr/>
          <p:nvPr/>
        </p:nvSpPr>
        <p:spPr>
          <a:xfrm>
            <a:off x="5292720" y="549360"/>
            <a:ext cx="3851280" cy="2735280"/>
          </a:xfrm>
          <a:prstGeom prst="cloudCallout">
            <a:avLst>
              <a:gd name="adj1" fmla="val -37847"/>
              <a:gd name="adj2" fmla="val 84490"/>
            </a:avLst>
          </a:prstGeom>
          <a:solidFill>
            <a:srgbClr val="fff5cc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d0d0d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are statements of </a:t>
            </a: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</a:rPr>
              <a:t>what a student will know or be able to do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,  if she or he has learned everything in the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479-44F2-4D64-B563-487AD4F1AA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Verbs to use for Objectives: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755640" y="1311120"/>
            <a:ext cx="8089920" cy="5145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A46-B2B5-49A7-A837-2B7403B4BA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haracteristics of Effective Objectives: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676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lear &amp;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ocus on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mastery can be demon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eas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ligned with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03F-DCC0-4621-9AA6-7B67FEE5D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162920" y="1066680"/>
            <a:ext cx="1218960" cy="1297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1219320" y="44956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jectives answer two of the four key questions of pla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What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students lear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8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1782bf"/>
                </a:solidFill>
                <a:latin typeface="Century Gothic"/>
              </a:rPr>
              <a:t>To what degree</a:t>
            </a:r>
            <a:r>
              <a:rPr b="0" lang="en-US" sz="1800" spc="-1" strike="noStrike">
                <a:solidFill>
                  <a:srgbClr val="1782bf"/>
                </a:solidFill>
                <a:latin typeface="Century Gothic"/>
              </a:rPr>
              <a:t> will they learn? To what depth and bread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cquir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will they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emonstrate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this lear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Times New Roman"/>
              </a:rPr>
              <a:t>Writing Aims &amp; Objectiv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Instructional Objective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 statements of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e students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ill know and be able to d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t the end of a lesson/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Impact"/>
              </a:rPr>
              <a:t>Ai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- the goal/objective of the lesson,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written for studen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in the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form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a </a:t>
            </a:r>
            <a:r>
              <a:rPr b="0" lang="en-US" sz="2800" spc="-1" strike="noStrike">
                <a:solidFill>
                  <a:srgbClr val="1782bf"/>
                </a:solidFill>
                <a:latin typeface="Arial Narrow"/>
              </a:rPr>
              <a:t>ques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Objectives, then think of activities (task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Otherwise, we focus on the activity and may not really know if it is really valuable as a learning objectiv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14c0f"/>
                </a:solidFill>
                <a:latin typeface="Arial"/>
              </a:rPr>
              <a:t>In this session, try to set out </a:t>
            </a:r>
            <a:r>
              <a:rPr b="1" lang="en-US" sz="2000" spc="-1" strike="noStrike" u="sng">
                <a:solidFill>
                  <a:srgbClr val="b14c0f"/>
                </a:solidFill>
                <a:uFillTx/>
                <a:latin typeface="Arial"/>
              </a:rPr>
              <a:t>All of the Objectives </a:t>
            </a:r>
            <a:r>
              <a:rPr b="0" i="1" lang="en-US" sz="2000" spc="-1" strike="noStrike">
                <a:solidFill>
                  <a:srgbClr val="b14c0f"/>
                </a:solidFill>
                <a:latin typeface="Arial"/>
              </a:rPr>
              <a:t>for a Unit you will be teaching. In subsequent sessions, we will focus on setting </a:t>
            </a:r>
            <a:r>
              <a:rPr b="0" lang="en-US" sz="2000" spc="-1" strike="noStrike">
                <a:solidFill>
                  <a:srgbClr val="b14c0f"/>
                </a:solidFill>
                <a:latin typeface="Arial"/>
              </a:rPr>
              <a:t>tasks, differentiation, and assessment for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3A8-2C26-4C53-B4D1-D771F6B43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3880" y="1447920"/>
            <a:ext cx="5943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acher who is attempting to teach without inspiring the pupil with a desire to learn is hammering on a cold 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Thank you for Completing the </a:t>
            </a:r>
            <a:br>
              <a:rPr sz="3600"/>
            </a:b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1782b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  Session!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BA9-B125-48A0-9B92-193C4F61A4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09480" y="2743200"/>
            <a:ext cx="7696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Until the Next Session, when planning try to make sure your lesson plans answer the four key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will students lear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To what degre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will they learn? To what depth and bread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acquir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this lear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11628f"/>
                </a:solidFill>
                <a:latin typeface="Arial"/>
              </a:rPr>
              <a:t>demonstrate</a:t>
            </a: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 this learning?            </a:t>
            </a: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b125a"/>
                </a:solidFill>
                <a:latin typeface="Arial"/>
              </a:rPr>
              <a:t>Include the following Characteristics for Effective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clear &amp;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focus on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ir mastery can be demonst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162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628f"/>
                </a:solidFill>
                <a:latin typeface="Arial"/>
              </a:rPr>
              <a:t>They are aligned with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GOALS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this session)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define Big ideas, Essential Questions, Objectives and 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identify resources for components 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summarize NYS Standards and C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provide TIME for writing objectives for your unit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2C56-07C9-48B9-B7F0-DE1209CFA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010280" y="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6"/>
          <p:cNvSpPr/>
          <p:nvPr/>
        </p:nvSpPr>
        <p:spPr>
          <a:xfrm>
            <a:off x="990720" y="4038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rricu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7"/>
          <p:cNvSpPr/>
          <p:nvPr/>
        </p:nvSpPr>
        <p:spPr>
          <a:xfrm>
            <a:off x="2819520" y="3886200"/>
            <a:ext cx="1600200" cy="7650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73779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t is usually  structured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419720" y="403848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9"/>
          <p:cNvSpPr/>
          <p:nvPr/>
        </p:nvSpPr>
        <p:spPr>
          <a:xfrm>
            <a:off x="5257800" y="3886200"/>
            <a:ext cx="1295280" cy="765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73779"/>
          </a:solidFill>
          <a:ln w="25560">
            <a:solidFill>
              <a:srgbClr val="0326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ubdivided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6971040" y="380988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828800" y="9907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urriculum Is at the Hear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 lessons are based on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3736080" y="483408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me(s),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7"/>
          <p:cNvCxnSpPr/>
          <p:nvPr/>
        </p:nvCxnSpPr>
        <p:spPr>
          <a:xfrm>
            <a:off x="4800240" y="4419360"/>
            <a:ext cx="1080" cy="478440"/>
          </a:xfrm>
          <a:prstGeom prst="straightConnector1">
            <a:avLst/>
          </a:prstGeom>
          <a:ln w="9360">
            <a:solidFill>
              <a:srgbClr val="043579"/>
            </a:solidFill>
            <a:miter/>
            <a:tailEnd len="med" type="arrow" w="med"/>
          </a:ln>
        </p:spPr>
      </p:cxnSp>
      <p:sp>
        <p:nvSpPr>
          <p:cNvPr id="125" name="Slide Number Placeholder 10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749-8264-4438-9148-60399CC7A2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LET’S BEGIN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34290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1: Big Ideas and Essentia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2: Planning and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3: Strategies for Effective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4: Developing Assessments Aligned  with Curriculum and C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j0197877"/>
          <p:cNvPicPr/>
          <p:nvPr/>
        </p:nvPicPr>
        <p:blipFill>
          <a:blip r:embed="rId1"/>
          <a:stretch/>
        </p:blipFill>
        <p:spPr>
          <a:xfrm>
            <a:off x="0" y="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BC6-F682-4C3C-8A62-B61268CF15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WE BEGIN… </a:t>
            </a:r>
            <a:br>
              <a:rPr sz="3600"/>
            </a:b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358092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couple of minutes to write your personal definition of “Big Idea” and “Essential Questions” as it relates to instruction, learning and assess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228-8E57-4304-84AD-932176A8E7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Times New Roman"/>
              </a:rPr>
              <a:t>What is the purpose of what I intend to teach?</a:t>
            </a:r>
            <a:endParaRPr b="0" lang="en-US" sz="28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a concept, theme, or issue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gives meaning and connecti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 facts and ski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ricul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andards) is the blue print for learning. Our focus should not be specific to a standard or individual lesson, but toward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G IDE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7862-7882-4215-8C75-0C85797B99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1A9-5D8C-45DD-9E1B-AAD2D8AA83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09480" y="1523880"/>
            <a:ext cx="8382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800" spc="-1" strike="noStrike" u="sng">
                <a:solidFill>
                  <a:srgbClr val="1782bf"/>
                </a:solidFill>
                <a:uFillTx/>
                <a:latin typeface="Arial"/>
              </a:rPr>
              <a:t>Mental Velcr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organizers to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students to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higher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a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cur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nswered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“ye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1782bf"/>
                </a:solidFill>
                <a:latin typeface="Arial"/>
              </a:rPr>
              <a:t>“no,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 found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533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Activity for Big Idea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6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a partner to work wit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r job is to classify the following statements as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Big Idea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 ready to share your reasoning for your classifica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v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DA01-E31E-44C8-A51E-5D2E4FFC17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82bf"/>
                </a:solidFill>
                <a:latin typeface="Times New Roman"/>
                <a:ea typeface="SimSun"/>
              </a:rPr>
              <a:t>RESOURCES!!!!!</a:t>
            </a:r>
            <a:endParaRPr b="0" lang="en-US" sz="40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9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Why re-invent the wheel?????? Resources on big ideas and essential question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www.nj.gov/education/aps/njscp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pdesas.org/module/sas/curriculumframework/  </a:t>
            </a:r>
            <a:r>
              <a:rPr b="0" lang="en-US" sz="3600" spc="-1" strike="noStrike" u="sng">
                <a:solidFill>
                  <a:srgbClr val="1782bf"/>
                </a:solidFill>
                <a:uFillTx/>
                <a:latin typeface="Arial"/>
                <a:ea typeface="SimSun"/>
              </a:rPr>
              <a:t>(Mrs. Nunez’s Favor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http://corestandards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535-42DB-4A79-88A3-A254C38A3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0:29:13Z</dcterms:created>
  <dc:creator>Charlotte Danielson</dc:creator>
  <dc:description/>
  <dc:language>en-US</dc:language>
  <cp:lastModifiedBy>lr</cp:lastModifiedBy>
  <dcterms:modified xsi:type="dcterms:W3CDTF">2012-01-11T18:36:41Z</dcterms:modified>
  <cp:revision>231</cp:revision>
  <dc:subject/>
  <dc:title>The Framework for Teacher Leadership</dc:title>
</cp:coreProperties>
</file>